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365-768F-453D-945E-188122B2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CEC-057F-4FD3-8F7C-815C1C62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62B-63D0-4E11-8BF2-67CB7B56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E6F-F229-426C-9605-88678DAE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D9A-8C47-4A60-8922-A525052C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8E1-3D58-4FFA-B0D0-1FC0DF2F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535-1BF7-4A7B-BD2B-2319A27A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2CD-9E70-4DF2-BC37-65B2486F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5D9-734C-4E51-A75B-DF232F32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2B1-A470-49F7-BB16-06A868EC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A68-985A-4E05-8C01-A122B49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A1A-7959-4AFE-A306-16521DCE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57F-F660-4F51-BE22-4958082ACD5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BB62-76B2-42A5-9180-4DB3727179B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D3B9-3962-4DBA-AEC5-0DE479D265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8"/>
          <p:cNvSpPr/>
          <p:nvPr/>
        </p:nvSpPr>
        <p:spPr>
          <a:xfrm>
            <a:off x="2935440" y="987480"/>
            <a:ext cx="3652560" cy="20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 декабря прошел  интеллектуально-развлекательная игра  «Рыцарский турнир». Нашим учащимся 6 класса предстояло состязание в ловкости, эрудиции, скорости. Песни, юмор и дружба, стали главным «орудием» наших рыцарей 21 века. В завершение игры  был определен победитель «Рыцарского турнира» с присвоением гордого звания «Рыцарь года». А также определили самых активных участников в разных номинациях: Мероприятие произвело положительное  впечатление на участников и группу поддержки, ребята находились в бодром расположении духа, чувство товарищества и здоровая конкуренция еще больше сплотила учащих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:\Users\RH\Desktop\Новая папка (2)\IMG-20211211-WA0087.jpg"/>
          <p:cNvPicPr/>
          <p:nvPr/>
        </p:nvPicPr>
        <p:blipFill>
          <a:blip r:embed="rId2"/>
          <a:stretch/>
        </p:blipFill>
        <p:spPr>
          <a:xfrm>
            <a:off x="785880" y="107172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C:\Users\RH\Desktop\Новая папка (2)\IMG-20211211-WA0088.jpg"/>
          <p:cNvPicPr/>
          <p:nvPr/>
        </p:nvPicPr>
        <p:blipFill>
          <a:blip r:embed="rId3"/>
          <a:stretch/>
        </p:blipFill>
        <p:spPr>
          <a:xfrm>
            <a:off x="714240" y="3000240"/>
            <a:ext cx="2143440" cy="1785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C:\Users\RH\Desktop\Новая папка (2)\IMG-20211211-WA0089.jpg"/>
          <p:cNvPicPr/>
          <p:nvPr/>
        </p:nvPicPr>
        <p:blipFill>
          <a:blip r:embed="rId4"/>
          <a:stretch/>
        </p:blipFill>
        <p:spPr>
          <a:xfrm>
            <a:off x="3429000" y="3143160"/>
            <a:ext cx="2428920" cy="166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C:\Users\RH\Desktop\Новая папка (2)\IMG-20211211-WA0090.jpg"/>
          <p:cNvPicPr/>
          <p:nvPr/>
        </p:nvPicPr>
        <p:blipFill>
          <a:blip r:embed="rId5"/>
          <a:stretch/>
        </p:blipFill>
        <p:spPr>
          <a:xfrm>
            <a:off x="6715080" y="114300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C:\Users\RH\Desktop\Новая папка (2)\IMG-20211211-WA0095.jpg"/>
          <p:cNvPicPr/>
          <p:nvPr/>
        </p:nvPicPr>
        <p:blipFill>
          <a:blip r:embed="rId6"/>
          <a:stretch/>
        </p:blipFill>
        <p:spPr>
          <a:xfrm>
            <a:off x="6429240" y="3214800"/>
            <a:ext cx="2357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9403-A0E4-443E-A302-8EFBA88E55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4419720" y="2419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971640" y="3219480"/>
            <a:ext cx="763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4572000" y="2571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4724280" y="2724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4876920" y="2876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3564000" y="1203480"/>
            <a:ext cx="2671560" cy="252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6588000" y="1131840"/>
            <a:ext cx="223200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4"/>
          <a:stretch/>
        </p:blipFill>
        <p:spPr>
          <a:xfrm>
            <a:off x="900000" y="1131840"/>
            <a:ext cx="2081160" cy="2774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5"/>
          <p:cNvSpPr/>
          <p:nvPr/>
        </p:nvSpPr>
        <p:spPr>
          <a:xfrm>
            <a:off x="1403280" y="42274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ЮНЫЕ ЗНАТОКИ РОДН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9A41-9F02-41F6-A577-236C4F6FBE7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3419640" y="120348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3"/>
          <a:stretch/>
        </p:blipFill>
        <p:spPr>
          <a:xfrm>
            <a:off x="6372360" y="113184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"/>
          <p:cNvPicPr/>
          <p:nvPr/>
        </p:nvPicPr>
        <p:blipFill>
          <a:blip r:embed="rId4"/>
          <a:stretch/>
        </p:blipFill>
        <p:spPr>
          <a:xfrm>
            <a:off x="755640" y="1131840"/>
            <a:ext cx="2376360" cy="2592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3"/>
          <p:cNvSpPr/>
          <p:nvPr/>
        </p:nvSpPr>
        <p:spPr>
          <a:xfrm>
            <a:off x="1258920" y="37958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Я</a:t>
            </a:r>
            <a:r>
              <a:rPr b="1" lang="tt-RU" sz="2400" spc="-1" strike="noStrike">
                <a:solidFill>
                  <a:srgbClr val="002060"/>
                </a:solidFill>
                <a:latin typeface="Arial"/>
              </a:rPr>
              <a:t>ҢА ЕЛ БИЗӘКЛӘР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2060"/>
                </a:solidFill>
                <a:latin typeface="Arial"/>
              </a:rPr>
              <a:t>(дәрес-проек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Лилия Фаргатовна</cp:lastModifiedBy>
  <cp:lastPrinted>2021-02-04T07:26:50Z</cp:lastPrinted>
  <dcterms:modified xsi:type="dcterms:W3CDTF">2021-12-27T18:32:29Z</dcterms:modified>
  <cp:revision>472</cp:revision>
  <dc:subject/>
  <dc:title>Презентация PowerPoint</dc:title>
</cp:coreProperties>
</file>